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dt" idx="3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E2D5-8676-4EDD-AD82-1AA5CB1ED840}" type="datetime2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ftr" idx="3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 type="sldNum" idx="3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27E7-C6CC-405E-BA75-C945AA31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7198-B8EE-4024-99CF-C185683AE6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9806-8C9F-4D39-9708-7B859E8A5ECE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86F6-2E47-4AF4-B9D2-7E5D32DBC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913F-6192-42CD-819A-281239CEBB01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76AF-BDF6-4145-8E5A-F4E100FCC8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BCD5-BDAF-4C74-ABC7-6663E18E43D5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0204-45F4-40A7-99AC-4B1FF4C1E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CF40-7E65-4B23-9CF7-67ADB74B9056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F36C-F4D0-4B99-95B6-80FF4E153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5B1D-9647-4795-A75D-68E0FA2D9E17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C7B4-3A8D-4C9D-B1FB-13C6A1B983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BCD5-E4BA-4C04-885B-3AA340988CC1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FFF2-41F6-4543-96AF-878894E2F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1C03-BA8A-4D5B-9FE1-2D94A899ABEF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9B8E-D33D-4B1B-A1EA-62FFE07FC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1C8E-91DF-4A0E-91A6-9A553F1879EB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7460-818F-40FF-B414-889F067C4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8150-EBDF-4B5B-A023-A48A14AFEDDB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C179-0B2F-45AD-905A-B24C2D73AF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029D-DDA9-45DA-B963-78066324FC49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2934-32F7-4BA6-A3C9-74C7EF6C4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83983-2BE4-4988-9800-7DBDF07D9458}" type="datetime2">
              <a:rPr b="0" lang="en-US" sz="1200" spc="-1" strike="noStrike">
                <a:solidFill>
                  <a:srgbClr val="000000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FD990D-6135-426F-AE64-B14A1686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87BA9-D5F7-4537-AF11-F5044A88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FD74FC-0145-42CE-BAA3-99A01AF1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233E51-44F2-4F47-8505-8A0FC8C2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248686-D469-46BC-812A-F0063AD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1FA739-F5E7-48B5-9CEC-6B6A6981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AB2A89-7B12-4DFB-B4AA-154671ED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42EB0CF-4EDC-4115-965E-07792730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92F136-7CA4-4590-B522-30750B530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D24981-01D3-4F58-9A31-4163AE22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25B0E2-2EB7-49D3-92BC-EAC349CC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82AA0D-BB83-49F2-80ED-088430E1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D8ADD5-BAC2-4278-B472-41BFD7B8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1C180C-CF49-4D2C-A6F6-471377DB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6002F7-1F52-46B0-8023-BAD0CEF5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01A6D7-B63E-47F7-BC59-D35C0395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DCC946-055B-410E-8BCE-E99141C6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515CC6-0B66-44C3-9D37-37C6CA83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3094A0-406C-40C9-8C39-CADD9235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90193-DC0B-4800-AE7F-4B9E44B0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931688-71C7-4947-8D49-3BF7ECB2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1C4CA0-4710-48B9-9FAA-D28DAA4B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22FB5E-40B8-43FB-AC42-D294D1C4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57F896-55D4-4A50-88D0-AA377A07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9BC78E-6759-45A7-9728-CD16F862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E1E5DB-BE15-4E70-AC65-7BE8C2BE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15772C-C7B3-47DF-8BDD-7B5DD66B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60A8B-7E18-4A83-AA12-7D9057D6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ADF6D6A-EE2C-433F-8AFD-C6040883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36BB8F-166D-4FEB-A661-42439049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78F925-5880-4C86-A074-1D2323B7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A7D929-FDA9-40AA-AE7A-3A8835C7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1593E5-4756-46C8-B0FC-D3B7E1EA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5CCB71-3318-43D2-87A3-0B232218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A35E39-CEAD-448B-BEEC-4E084EEA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403DB7-1887-418D-93B2-48D76CAA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11952A-589F-4392-B5D4-A6ACB9B8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5DD932-09C9-4119-9EFD-6B442412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4719D2-A82E-420D-B2F0-CE18CDB5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AFAF62-5656-45AC-9FCB-ECBD3084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D41E5B-275B-4360-A871-251DDFCE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042B79-04F5-492E-9F0E-D86353ED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D484D3-060D-47FC-8838-D07A076D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ADDBB2-7B9A-43D8-BB00-3EAC9A38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E6F087-E64F-4F14-BB24-018364E7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B743E-DF86-4C71-B3C4-2534164B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4C775-363F-4E1B-9AD0-1962EB22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F02AB-9748-49C3-8D8A-D51B142B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2A7F9-816E-47F9-BDD9-27C600C3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85E0E-D267-440C-BAB4-610B8D80E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F2DEA-30CF-4C18-9CAE-13310E24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A8EFA-4B14-4478-8736-3F501E01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DE0FC-39AE-46C9-B577-B5F12ED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D7B7F-0D81-4287-B8B3-5DCC678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6837B-34BB-42A0-9D0B-E1CFBC97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EAE49-B923-4B62-8CCD-D4226DF9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A580E-9C12-4573-9F96-756A7D7C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38CCA-2B5D-4163-97A8-66A952BA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7B89E-6671-4880-A9FC-9620BDFB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3078E-B11E-407F-8553-47019EA9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B59842-1252-40E7-AB7A-C9377564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E0F045-ED92-420F-A779-9E8DA2F7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70AA0A-35A4-4002-BAD3-A570A534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10625-2517-4B5E-BF94-2B15B1FA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699CB-9E65-4926-83A5-0C10887A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34889-737E-4BF8-82D0-1A4AD56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AA33C-3BB6-4F59-88ED-2C9817E1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17F51-1AC7-40D4-8485-161F2D5C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DC508-DCCD-4249-85BA-95D6CFC2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A6438-91C0-4CFE-BDA6-DF56D3C6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EB3CA-82F5-448C-A023-EAC295D7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01ED8-CE66-49F0-BE11-F605B783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2C0A60-A0B7-4D8E-9218-D3BBE96B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B7F11-6FE1-495A-8EF1-780BCFE3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93E418-1EBF-4671-BF58-CCD37AB8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776E2-24B5-42E5-976E-20A3A4B8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85140A-44CB-457A-A697-3515F51F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3D447-D7E0-4726-86EE-18C42AE0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52C68F-6720-4D2F-85B7-E9B4CC5C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22EEB2-9FE5-42AF-9589-BBFEBD8C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BB2844-AD9E-4487-8AAC-989B3394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0B53A-2705-4430-8A67-058EDB3C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27C2D-03F3-4BD5-8963-25910D9E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1C2F48-08A4-4E2F-B960-E7B76A5A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1328A-A796-43D3-9D12-A0A24F6B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EDC57-1EF3-436E-8706-8C42CB0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49A38A-77D2-41E5-91EE-F48A9A8C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DEA2B-F3D0-4E18-A1EE-4D20F48C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A322C-D51D-4161-9F0F-8FE97004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60D8F-874C-45C4-BC0C-8941AC8D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DE6C11-BAA0-4149-B812-A1873585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8AC010-DCAB-4599-982A-5F784B15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F9BBA-BC13-4E17-9925-C4D63719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7A7BD-8910-4B75-A381-8251BF76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5DF9CA-050D-47CD-B6F7-2740D74C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B4DAF-8CEF-46BA-9977-DC0A8ABE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A0D2E5-D3D2-4347-AE55-796CD697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1D572-9DD0-4E32-8EC6-CDF6904C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D2C29-668D-41CA-9CC5-CC1BAFB1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1B6FC-7D06-4CFD-B7E0-B59EA91A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40AF7F-B872-459C-804B-D76262A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170F3-EDEE-4E9F-AA97-A1A63997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1379B-45A5-4251-87E9-0B283485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EFFCEC-7431-4975-A0D2-70D72173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81CB1E-59FB-43E1-9D7D-5178C373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ED5B84-0A74-4167-8490-B7BD86EF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4F3004-34B3-4AD3-B802-85BE2ADE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47A3B0-D45C-4930-8BED-F752DF98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4967C-6E83-40D0-BDB8-8D1B517B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57D8A-C1D7-4491-842C-AE993E76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0A832-C23A-460A-A1B6-B11473F1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8E8E22-32B1-41DA-B2C8-8FDD32FE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0138E0-E5C3-4026-9155-AECA59A6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E7CDFB-6610-4ADE-9E01-ACCF7E0A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FB700-7CF4-4498-96AC-F6B5AE6F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C63DDE-D3EE-4EB8-AC5D-CD994BB6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6BAB2E-8BDA-40B5-B5E6-30EB3A1B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024BE-074D-4EDD-B2B6-BFADD1C9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6160C-1B92-45D6-923D-EA253B0A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425F90-8EC7-4D21-B7DD-25367F62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02DE-EE00-4E82-A819-595196962F8F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CB8B019-4780-485F-92BF-E17FDF36E444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4B210D8-16DF-4C7C-AF35-796F954F5325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24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09DB-2D77-4430-B39A-1857747EFBEC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026C-4871-4A1A-B0D5-91BB4070B7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124C6CA-A87B-4F60-8A8A-F342BA93159B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7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5DE6-B9E0-4EFC-8480-36294E771381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CC78-9468-4F5C-9878-1C062742D9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11E996F-00BB-42BD-9FA5-4DBB85996B46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0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9DD8-A720-40DE-869B-54DDAC01EBDE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29DC-094C-4BF8-9515-0958EC9E3E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3507E52-8B60-41E5-82BF-33A5A588FAC4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0" descr="PPt_TopBand_Artwork"/>
          <p:cNvPicPr/>
          <p:nvPr/>
        </p:nvPicPr>
        <p:blipFill>
          <a:blip r:embed="rId3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1030" descr=""/>
          <p:cNvPicPr/>
          <p:nvPr/>
        </p:nvPicPr>
        <p:blipFill>
          <a:blip r:embed="rId4"/>
          <a:stretch/>
        </p:blipFill>
        <p:spPr>
          <a:xfrm>
            <a:off x="-19080" y="1432080"/>
            <a:ext cx="635040" cy="5438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5"/>
          <a:stretch/>
        </p:blipFill>
        <p:spPr>
          <a:xfrm>
            <a:off x="0" y="7621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2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47BB-6EA8-4BE8-AD19-F8FED3FB45BB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972335C-7E0C-4C4F-8EE4-B242158F7EDA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D84C-8A97-4626-B349-C06DE9F99562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8630-E114-49E6-8CCB-05E426BD7B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203D501-26D6-4A65-87D1-8130BE771D08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6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493-25A4-40FC-B058-A22628A3B556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542D-08C5-425F-AAFC-FD2CD7B11F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C457900-AAB0-44C7-97C0-2BDCF50388A2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9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2D9A-0EBD-4CFC-808F-28741182D476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9F05-D299-44C3-9198-23DE3033FE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D43A66E-0F78-4F34-AA41-1E971B49FD5E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2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681E-20D2-42FE-B743-A0D386075993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B1B3-B80D-4BDD-8B72-D17A235971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0CFF929-4B38-449F-BF2A-19030C549C1C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5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BBB1-2CA2-4E84-B632-2977DA6B6E25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FA75-7CED-43FC-A4B9-2106DD2D1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771FA93-0EDA-4EE2-8BC8-7CDE490ECE46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8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4822-2C04-41E0-A1F6-8E7E632850BA}" type="datetime2">
              <a:rPr b="1" i="1" lang="en-US" sz="1200" spc="-1" strike="noStrike">
                <a:solidFill>
                  <a:srgbClr val="00999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63DA-897F-4CFD-A392-7CDB08A8B6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8"/>
          <p:cNvSpPr/>
          <p:nvPr/>
        </p:nvSpPr>
        <p:spPr>
          <a:xfrm>
            <a:off x="2975040" y="6624720"/>
            <a:ext cx="328896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1000" spc="-1" strike="noStrike">
                <a:solidFill>
                  <a:srgbClr val="009999"/>
                </a:solidFill>
                <a:latin typeface="Calibri"/>
              </a:rPr>
              <a:t>© 2009 Cisco Unijos_RA    by Joel     gogwim@unijos.edu.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8402400" y="6626520"/>
            <a:ext cx="7088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1647180-5C4E-45C3-995A-12B729BBBD9C}" type="slidenum">
              <a:rPr b="1" lang="en-US" sz="1000" spc="-1" strike="noStrike">
                <a:solidFill>
                  <a:srgbClr val="00999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1"/>
          </p:nvPr>
        </p:nvSpPr>
        <p:spPr>
          <a:xfrm>
            <a:off x="4568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A4E2-4DBE-4D32-A790-B80B2E21486B}" type="datetime2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2C52-5EA3-40DD-ACC2-C23F410CF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4"/>
          <p:cNvSpPr txBox="1"/>
          <p:nvPr/>
        </p:nvSpPr>
        <p:spPr>
          <a:xfrm>
            <a:off x="609480" y="2362320"/>
            <a:ext cx="838224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Running an Academ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35" name="Date Placeholder 5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B030-9E02-4479-A05F-08AA04AA7163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ivations As A Local Academy (Cont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6320" y="182844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articipation of our Cisco students in deploying network in faculties, departments, and  units of the univers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ability to train, educate and prepare potential employees and students for higher education in our society is fulfilling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aving our graduates as employees and students in reputable establishments and institutions of learning as a result of their Cisco certificates is a source of motivation to our competent and outstanding instructors to strive high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9737-9261-46D3-82C4-BC4F188A42AC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llenges Faced As Loc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152280" y="1951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over growing number of students compare to the number of equipment is quite challeng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lligent exams malpractice by stud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isting our graduates to secure jobs/further their edu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ose earlier mentioned managerial challenges also affects the running of the Unijos L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E915-FBBE-4490-8612-7450C128E77E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unning an Academy as Reg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76320" y="175212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task of running a regional academy inclu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cruiting LAs  - New &amp; potent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in &amp; re-train LAs Instruc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pporting the LAs- by attending to their problems, paying visit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suring that LAs practice and promote Cisco QA pl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9A4C-F52F-4BDA-8DA0-ACD65F4BD6B4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unning an Academy as Loc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52280" y="17521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 task of running a local academy includ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rained and maintain instructors &amp; administ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rket and promote the Academy within your community i.e. focus on the Academy growth – use flyers, handbills, posters, presentations, et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cus on students’ outcomes – improving their perform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ign skills with specific jobs in networ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lates with your Alumn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FD12-9769-4DF6-9074-394BC993F175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nagerial Motiv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1951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on readiness to support  the Cisco Networking Academy program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stitution partners’ keen interest in supporting and promoting Cisco Academy activities both in-kind and via funding – for instance, the purchase of Lab bundles, Netlabs, Scholarships, Comput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79CD-1315-40D7-B6B5-1DA79DE2AC2D}" type="datetime2">
              <a:rPr b="0" lang="en-US" sz="1200" spc="-1" strike="noStrike">
                <a:solidFill>
                  <a:srgbClr val="89898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nagerial Challe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04560" y="1951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untimely release of funds for Academy activit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ck of adequate motivational emoluments for Instructors as obtained in other IT related industr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ow to sustain the scholarships support to female  students after the University’s partnership with Carnegie Foundation of New Yor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Date Placeholder 3"/>
          <p:cNvSpPr/>
          <p:nvPr/>
        </p:nvSpPr>
        <p:spPr>
          <a:xfrm>
            <a:off x="457200" y="66452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C598-D94C-4C83-8741-4DE38907C099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56340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ivations As A Region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28600" y="1828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ility to recruit and maintain LAs is quite fulfilling and motivation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isfaction after supporting or resolving problems for LA(s). A consultant’s skills been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ide of having LA(s) in a given place, especially when one travel to LAs’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A8DE-B3F0-4A64-B32E-BCE2B0EF3C2A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563400"/>
            <a:ext cx="91440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ivations As A Region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cial/human network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ngst fellow instructors both within &amp; outside Nigeria – For instance, relationship built in other workshops and conferences with Cisco relationship as binding fo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cognition of the RA performance via several awards is motiva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3A84-E196-4379-9823-18A9478B718F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llenges Faced As A Region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28240" y="1874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nitoring L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ck of compliances to operational procedures by L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quent changes in LMCs at the LAs affects continuity at LAs and communication with the 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s’ management operational policies affects their effectiveness and how RA could interve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1FB1-3C8C-4D3D-8FC6-7674FFAF16B4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ivations As A Local Acade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0" y="19810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de of training staffs from Telecoms and other industries e.g. Glo, Celtel, CBN, Vom Vet, Film Cooperation, M-tel, Unijos staff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ilding an in-house capacity and skills of staffs by partaking in the Cisco Networking Academy which enable them to better manage the university’s network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ching our local communities with IT skills and knowledge is highly motiv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Date Placeholder 3"/>
          <p:cNvSpPr/>
          <p:nvPr/>
        </p:nvSpPr>
        <p:spPr>
          <a:xfrm>
            <a:off x="45720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6723-9F25-4829-A3F9-ECDFBB075544}" type="datetime2">
              <a:rPr b="1" i="1" lang="en-US" sz="1200" spc="-1" strike="noStrike">
                <a:solidFill>
                  <a:srgbClr val="009999"/>
                </a:solidFill>
                <a:latin typeface="Calibri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2:47:09Z</dcterms:created>
  <dc:creator>gogwim</dc:creator>
  <dc:description/>
  <dc:language>en-US</dc:language>
  <cp:lastModifiedBy>gogwim</cp:lastModifiedBy>
  <dcterms:modified xsi:type="dcterms:W3CDTF">2009-03-31T14:46:08Z</dcterms:modified>
  <cp:revision>15</cp:revision>
  <dc:subject/>
  <dc:title>MOTIVATION &amp; CHALLENGIES</dc:title>
</cp:coreProperties>
</file>